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11.gif" ContentType="image/gif"/>
  <Override PartName="/ppt/media/image9.gif" ContentType="image/gif"/>
  <Override PartName="/ppt/media/image8.gif" ContentType="image/gif"/>
  <Override PartName="/ppt/media/image18.jpeg" ContentType="image/jpeg"/>
  <Override PartName="/ppt/media/image12.gif" ContentType="image/gif"/>
  <Override PartName="/ppt/media/image7.gif" ContentType="image/gif"/>
  <Override PartName="/ppt/media/image10.gif" ContentType="image/gif"/>
  <Override PartName="/ppt/media/image22.gif" ContentType="image/gif"/>
  <Override PartName="/ppt/media/image17.jpeg" ContentType="image/jpeg"/>
  <Override PartName="/ppt/media/image5.gif" ContentType="image/gif"/>
  <Override PartName="/ppt/media/image21.gif" ContentType="image/gif"/>
  <Override PartName="/ppt/media/image19.gif" ContentType="image/gif"/>
  <Override PartName="/ppt/media/image16.gif" ContentType="image/gif"/>
  <Override PartName="/ppt/media/image1.wmf" ContentType="image/x-wmf"/>
  <Override PartName="/ppt/media/image14.gif" ContentType="image/gif"/>
  <Override PartName="/ppt/media/image2.gif" ContentType="image/gif"/>
  <Override PartName="/ppt/media/image3.gif" ContentType="image/gif"/>
  <Override PartName="/ppt/media/image6.wmf" ContentType="image/x-wmf"/>
  <Override PartName="/ppt/media/image4.gif" ContentType="image/gif"/>
  <Override PartName="/ppt/media/image1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552-2356-4B1F-8E03-C8381967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90F-47CA-4D2A-BBB5-EE73A376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FC1C-055E-470D-BB17-198A960C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AEFB-85B4-4964-99C4-C78D8AE6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2A8C-2D93-40CA-B09F-A0E4180F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A5C-9894-4DD7-B0E3-3E71D899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8BF3-64B7-496C-8BBA-D799CE66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EC50-71E3-438B-BDEF-436ED932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378-909F-4632-97C0-7C3DE56A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FD6-EBC5-4D2E-9AE7-A74C506F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DBC0-3D59-4D36-AC74-F5DD67DC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E4D4-6B90-4170-A173-FA8E8C60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0409-5235-4346-B94B-6FE42900D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mmigration.museum.vic.gov.au/timeline" TargetMode="External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acismnoway.com.au/links.html#mr" TargetMode="External"/><Relationship Id="rId2" Type="http://schemas.openxmlformats.org/officeDocument/2006/relationships/hyperlink" Target="http://www.racismnoway.com.au/links.html#mr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cashreg.wav" TargetMode="External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156528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4267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00360" y="3500280"/>
            <a:ext cx="5210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e are one but we are man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27160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886200" y="1295280"/>
            <a:ext cx="1700280" cy="243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2192400" cy="2209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867280" y="380880"/>
            <a:ext cx="2346480" cy="176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09680" y="1905120"/>
            <a:ext cx="405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immigration.museum.vic.gov.au/tim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96040" y="981000"/>
            <a:ext cx="816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Click on the link below and take notes on the import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events that impacted on migration to Austra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36640" y="26780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5760" y="2286000"/>
            <a:ext cx="841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ff"/>
                </a:solidFill>
                <a:latin typeface="Times New Roman"/>
              </a:rPr>
              <a:t>Click on the file and print the sheet to Note 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ff"/>
                </a:solidFill>
                <a:latin typeface="Times New Roman"/>
              </a:rPr>
              <a:t>Only write down the key words/ phrases and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66ff"/>
                </a:solidFill>
                <a:latin typeface="Times New Roman"/>
              </a:rPr>
              <a:t>put these into meaningful sentences l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/>
          </p:cNvPr>
          <p:cNvSpPr/>
          <p:nvPr/>
        </p:nvSpPr>
        <p:spPr>
          <a:xfrm>
            <a:off x="6629400" y="3733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643200" y="304920"/>
            <a:ext cx="1857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IMELIN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514600" y="3886200"/>
            <a:ext cx="32925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33280" y="349200"/>
            <a:ext cx="7486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Draw a timeline of events that impac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on Australian Immigration b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00"/>
                </a:solidFill>
                <a:latin typeface="Times New Roman"/>
              </a:rPr>
              <a:t>using your no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You can choose to 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Inspi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ff"/>
                </a:solidFill>
                <a:latin typeface="Times New Roman"/>
              </a:rPr>
              <a:t>Big paper and tex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90920" y="4468680"/>
            <a:ext cx="3047760" cy="2275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215040" y="2819520"/>
            <a:ext cx="1214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Times New Roman"/>
              </a:rPr>
              <a:t>Click on the website below and choose one agency to research and record your findings on the f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cc33"/>
                </a:solidFill>
                <a:latin typeface="Times New Roman"/>
              </a:rPr>
              <a:t>Next share this information with the class on the big ch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AU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racismnoway.com.au/links.html#m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3"/>
          </p:cNvPr>
          <p:cNvSpPr/>
          <p:nvPr/>
        </p:nvSpPr>
        <p:spPr>
          <a:xfrm>
            <a:off x="7924680" y="2978280"/>
            <a:ext cx="814680" cy="901440"/>
          </a:xfrm>
          <a:custGeom>
            <a:avLst/>
            <a:gdLst>
              <a:gd name="textAreaLeft" fmla="*/ 52560 w 814680"/>
              <a:gd name="textAreaRight" fmla="*/ 762120 w 814680"/>
              <a:gd name="textAreaTop" fmla="*/ 52560 h 901440"/>
              <a:gd name="textAreaBottom" fmla="*/ 848880 h 901440"/>
            </a:gdLst>
            <a:ahLst/>
            <a:rect l="textAreaLeft" t="textAreaTop" r="textAreaRight" b="textAreaBottom"/>
            <a:pathLst>
              <a:path w="21600" h="23899">
                <a:moveTo>
                  <a:pt x="0" y="0"/>
                </a:moveTo>
                <a:lnTo>
                  <a:pt x="21600" y="0"/>
                </a:lnTo>
                <a:lnTo>
                  <a:pt x="21600" y="23899"/>
                </a:lnTo>
                <a:lnTo>
                  <a:pt x="0" y="23899"/>
                </a:lnTo>
                <a:close/>
              </a:path>
              <a:path fill="lightenLess" w="21600" h="238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99">
                <a:moveTo>
                  <a:pt x="21600" y="0"/>
                </a:moveTo>
                <a:lnTo>
                  <a:pt x="21600" y="23899"/>
                </a:lnTo>
                <a:lnTo>
                  <a:pt x="20200" y="22499"/>
                </a:lnTo>
                <a:lnTo>
                  <a:pt x="20200" y="1400"/>
                </a:lnTo>
                <a:close/>
              </a:path>
              <a:path fill="darkenLess" w="21600" h="23899">
                <a:moveTo>
                  <a:pt x="21600" y="23899"/>
                </a:moveTo>
                <a:lnTo>
                  <a:pt x="0" y="23899"/>
                </a:lnTo>
                <a:lnTo>
                  <a:pt x="1400" y="22499"/>
                </a:lnTo>
                <a:lnTo>
                  <a:pt x="20200" y="22499"/>
                </a:lnTo>
                <a:close/>
              </a:path>
              <a:path fill="lighten" w="21600" h="23899">
                <a:moveTo>
                  <a:pt x="0" y="238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99"/>
                </a:lnTo>
                <a:close/>
              </a:path>
              <a:path fill="darkenLess" w="21600" h="23899">
                <a:moveTo>
                  <a:pt x="5273" y="5135"/>
                </a:moveTo>
                <a:lnTo>
                  <a:pt x="12271" y="5135"/>
                </a:lnTo>
                <a:lnTo>
                  <a:pt x="16327" y="8634"/>
                </a:lnTo>
                <a:lnTo>
                  <a:pt x="16327" y="18765"/>
                </a:lnTo>
                <a:lnTo>
                  <a:pt x="5273" y="18765"/>
                </a:lnTo>
                <a:close/>
              </a:path>
              <a:path fill="darken" w="21600" h="23899">
                <a:moveTo>
                  <a:pt x="12271" y="5135"/>
                </a:moveTo>
                <a:lnTo>
                  <a:pt x="16327" y="8634"/>
                </a:lnTo>
                <a:lnTo>
                  <a:pt x="12271" y="863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715000" y="4572000"/>
            <a:ext cx="990720" cy="858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438360" y="609480"/>
            <a:ext cx="2267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HO HELPS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62120" y="304920"/>
            <a:ext cx="7029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WE CALL AUSTRALIA HO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/>
          <p:nvPr/>
        </p:nvSpPr>
        <p:spPr>
          <a:xfrm>
            <a:off x="965880" y="2251080"/>
            <a:ext cx="8039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esign a poster to advertise Austral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as a great place to l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Include pictures, slogans and br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information on the opportunities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has to off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Use big paper and tex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Use Inspiration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Word or Creative Wr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Remember your poster needs to encourage people to come 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00800" y="3657600"/>
            <a:ext cx="1211400" cy="1096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886200" y="1447920"/>
            <a:ext cx="100656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45680" y="730080"/>
            <a:ext cx="7744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Use a mindmap to organise your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from the immigration muse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Use big paper and tex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Click on the file to go to mindma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instructions. Print these and pas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them into your book</a:t>
            </a: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/>
          </p:cNvPr>
          <p:cNvSpPr/>
          <p:nvPr/>
        </p:nvSpPr>
        <p:spPr>
          <a:xfrm>
            <a:off x="7924680" y="3200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743200" y="0"/>
            <a:ext cx="2457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INDMAP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14634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69960" y="243000"/>
            <a:ext cx="7331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22240" y="471600"/>
            <a:ext cx="6950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1828800"/>
            <a:ext cx="70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1430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160020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532800" y="1422360"/>
            <a:ext cx="7567560" cy="5455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urprised you at the immigr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eu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id you feel about what you hear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still need to find o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Write a letter to the museum telling of w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you learnt (from your mindmap) as well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66ff"/>
                </a:solidFill>
                <a:latin typeface="Times New Roman"/>
              </a:rPr>
              <a:t>answering the questions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19320" y="380880"/>
            <a:ext cx="48574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IMMIGRATION MUSEU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010280" y="304920"/>
            <a:ext cx="194328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69960" y="11113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9960" y="13399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762120"/>
            <a:ext cx="8381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rite a report about your 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Times New Roman"/>
              </a:rPr>
              <a:t>How did you feel about intervie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66ff"/>
                </a:solidFill>
                <a:latin typeface="Times New Roman"/>
              </a:rPr>
              <a:t>someone about their liv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ff"/>
                </a:solidFill>
                <a:latin typeface="Times New Roman"/>
              </a:rPr>
              <a:t>What did you lear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What would you do differently next ti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Click on the link to go to a chart to summarise your int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/>
          </p:cNvPr>
          <p:cNvSpPr/>
          <p:nvPr/>
        </p:nvSpPr>
        <p:spPr>
          <a:xfrm>
            <a:off x="57913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119400" y="0"/>
            <a:ext cx="2905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INTERVIEW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>
            <a:hlinkClick r:id="" action="ppaction://hlinkshowjump?jump=nextslide"/>
            <a:hlinkClick r:id="rId2"/>
          </p:cNvPr>
          <p:cNvSpPr/>
          <p:nvPr/>
        </p:nvSpPr>
        <p:spPr>
          <a:xfrm>
            <a:off x="8153280" y="5562720"/>
            <a:ext cx="685800" cy="662040"/>
          </a:xfrm>
          <a:custGeom>
            <a:avLst/>
            <a:gdLst>
              <a:gd name="textAreaLeft" fmla="*/ 42840 w 685800"/>
              <a:gd name="textAreaRight" fmla="*/ 642960 w 6858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375" h="21600">
                <a:moveTo>
                  <a:pt x="0" y="0"/>
                </a:moveTo>
                <a:lnTo>
                  <a:pt x="22375" y="0"/>
                </a:lnTo>
                <a:lnTo>
                  <a:pt x="22375" y="21600"/>
                </a:lnTo>
                <a:lnTo>
                  <a:pt x="0" y="21600"/>
                </a:lnTo>
                <a:close/>
              </a:path>
              <a:path fill="lightenLess" w="22375" h="21600">
                <a:moveTo>
                  <a:pt x="0" y="0"/>
                </a:moveTo>
                <a:lnTo>
                  <a:pt x="22375" y="0"/>
                </a:lnTo>
                <a:lnTo>
                  <a:pt x="20975" y="1400"/>
                </a:lnTo>
                <a:lnTo>
                  <a:pt x="1400" y="1400"/>
                </a:lnTo>
                <a:close/>
              </a:path>
              <a:path fill="darken" w="22375" h="21600">
                <a:moveTo>
                  <a:pt x="22375" y="0"/>
                </a:moveTo>
                <a:lnTo>
                  <a:pt x="22375" y="21600"/>
                </a:lnTo>
                <a:lnTo>
                  <a:pt x="20975" y="20200"/>
                </a:lnTo>
                <a:lnTo>
                  <a:pt x="20975" y="1400"/>
                </a:lnTo>
                <a:close/>
              </a:path>
              <a:path fill="darkenLess" w="22375" h="21600">
                <a:moveTo>
                  <a:pt x="2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75" y="20200"/>
                </a:lnTo>
                <a:close/>
              </a:path>
              <a:path fill="lighten" w="2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75" h="21600">
                <a:moveTo>
                  <a:pt x="4181" y="3794"/>
                </a:moveTo>
                <a:lnTo>
                  <a:pt x="18194" y="10800"/>
                </a:lnTo>
                <a:lnTo>
                  <a:pt x="4181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838080" y="59436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10800"/>
                </a:moveTo>
                <a:lnTo>
                  <a:pt x="21409" y="3794"/>
                </a:lnTo>
                <a:lnTo>
                  <a:pt x="21409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172200" y="304920"/>
            <a:ext cx="11318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533520"/>
            <a:ext cx="5639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280" y="425520"/>
            <a:ext cx="80168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Make predictions about the cul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backgrounds of the children in our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</a:rPr>
              <a:t>Find out about the number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</a:rPr>
              <a:t>people from other cultural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Times New Roman"/>
              </a:rPr>
              <a:t>backgrounds in our school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Represent these in a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Times New Roman"/>
              </a:rPr>
              <a:t>using Exc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Times New Roman"/>
              </a:rPr>
              <a:t>Click on the lin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0093"/>
                </a:solidFill>
                <a:latin typeface="Times New Roman"/>
              </a:rPr>
              <a:t>to see the school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/>
          </p:cNvPr>
          <p:cNvSpPr/>
          <p:nvPr/>
        </p:nvSpPr>
        <p:spPr>
          <a:xfrm>
            <a:off x="4572000" y="441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nextslide"/>
            <a:hlinkClick r:id="rId2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0" y="5943600"/>
            <a:ext cx="838080" cy="91440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14400"/>
              <a:gd name="textAreaBottom" fmla="*/ 860400 h 914400"/>
            </a:gdLst>
            <a:ahLst/>
            <a:rect l="textAreaLeft" t="textAreaTop" r="textAreaRight" b="textAreaBottom"/>
            <a:pathLst>
              <a:path w="21600" h="23566">
                <a:moveTo>
                  <a:pt x="0" y="0"/>
                </a:moveTo>
                <a:lnTo>
                  <a:pt x="21600" y="0"/>
                </a:lnTo>
                <a:lnTo>
                  <a:pt x="21600" y="23566"/>
                </a:lnTo>
                <a:lnTo>
                  <a:pt x="0" y="23566"/>
                </a:lnTo>
                <a:close/>
              </a:path>
              <a:path fill="lightenLess" w="21600" h="235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66">
                <a:moveTo>
                  <a:pt x="21600" y="0"/>
                </a:moveTo>
                <a:lnTo>
                  <a:pt x="21600" y="23566"/>
                </a:lnTo>
                <a:lnTo>
                  <a:pt x="20200" y="22166"/>
                </a:lnTo>
                <a:lnTo>
                  <a:pt x="20200" y="1400"/>
                </a:lnTo>
                <a:close/>
              </a:path>
              <a:path fill="darkenLess" w="21600" h="23566">
                <a:moveTo>
                  <a:pt x="21600" y="23566"/>
                </a:moveTo>
                <a:lnTo>
                  <a:pt x="0" y="23566"/>
                </a:lnTo>
                <a:lnTo>
                  <a:pt x="1400" y="22166"/>
                </a:lnTo>
                <a:lnTo>
                  <a:pt x="20200" y="22166"/>
                </a:lnTo>
                <a:close/>
              </a:path>
              <a:path fill="lighten" w="21600" h="23566">
                <a:moveTo>
                  <a:pt x="0" y="235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66"/>
                </a:lnTo>
                <a:close/>
              </a:path>
              <a:path fill="darken" w="21600" h="23566">
                <a:moveTo>
                  <a:pt x="3794" y="11783"/>
                </a:moveTo>
                <a:lnTo>
                  <a:pt x="17806" y="4777"/>
                </a:lnTo>
                <a:lnTo>
                  <a:pt x="17806" y="1879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20720" cy="1028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7315200" y="2754360"/>
            <a:ext cx="66348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7620120" y="685800"/>
            <a:ext cx="69696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6019920" y="4038480"/>
            <a:ext cx="13827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45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90440" y="2622600"/>
            <a:ext cx="876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hat if the First Fleet never come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>
            <a:hlinkClick r:id="rId2"/>
          </p:cNvPr>
          <p:cNvSpPr/>
          <p:nvPr/>
        </p:nvSpPr>
        <p:spPr>
          <a:xfrm>
            <a:off x="4724280" y="4191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7" h="21600">
                <a:moveTo>
                  <a:pt x="5277" y="3985"/>
                </a:moveTo>
                <a:lnTo>
                  <a:pt x="12275" y="3985"/>
                </a:lnTo>
                <a:lnTo>
                  <a:pt x="16331" y="7484"/>
                </a:lnTo>
                <a:lnTo>
                  <a:pt x="16331" y="17615"/>
                </a:lnTo>
                <a:lnTo>
                  <a:pt x="5277" y="17615"/>
                </a:lnTo>
                <a:close/>
              </a:path>
              <a:path fill="darken" w="21607" h="21600">
                <a:moveTo>
                  <a:pt x="12275" y="3985"/>
                </a:moveTo>
                <a:lnTo>
                  <a:pt x="16331" y="7484"/>
                </a:lnTo>
                <a:lnTo>
                  <a:pt x="12275" y="74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4040" y="3854520"/>
            <a:ext cx="3342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lick on the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o use De Bono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hinking ha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60600" y="1314360"/>
            <a:ext cx="6764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Times New Roman"/>
              </a:rPr>
              <a:t>How might this data have changed o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Times New Roman"/>
              </a:rPr>
              <a:t>the last 50 to 100 y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ight it change in the fut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Times New Roman"/>
              </a:rPr>
              <a:t>Click on the file and complet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99"/>
                </a:solidFill>
                <a:latin typeface="Times New Roman"/>
              </a:rPr>
              <a:t>predictio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Brainstorm possible prediction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probable outcomes. On the proof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record facts that support y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/>
          </p:cNvPr>
          <p:cNvSpPr/>
          <p:nvPr/>
        </p:nvSpPr>
        <p:spPr>
          <a:xfrm>
            <a:off x="7391520" y="4495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Less" w="21600" h="21607">
                <a:moveTo>
                  <a:pt x="5273" y="3989"/>
                </a:moveTo>
                <a:lnTo>
                  <a:pt x="12271" y="3989"/>
                </a:lnTo>
                <a:lnTo>
                  <a:pt x="16327" y="7488"/>
                </a:lnTo>
                <a:lnTo>
                  <a:pt x="16327" y="17619"/>
                </a:lnTo>
                <a:lnTo>
                  <a:pt x="5273" y="17619"/>
                </a:lnTo>
                <a:close/>
              </a:path>
              <a:path fill="darken" w="21600" h="21607">
                <a:moveTo>
                  <a:pt x="12271" y="3989"/>
                </a:moveTo>
                <a:lnTo>
                  <a:pt x="16327" y="7488"/>
                </a:lnTo>
                <a:lnTo>
                  <a:pt x="12271" y="748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90920" y="228600"/>
            <a:ext cx="2923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BOUT THE DATA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162920" y="380880"/>
            <a:ext cx="1633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9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18960" y="299880"/>
          <a:ext cx="8220240" cy="625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299880"/>
                    <a:ext cx="8220240" cy="625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0" y="3920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76080" y="1035000"/>
            <a:ext cx="828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What countries are included in each of the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major reg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/>
          </p:cNvPr>
          <p:cNvSpPr/>
          <p:nvPr/>
        </p:nvSpPr>
        <p:spPr>
          <a:xfrm>
            <a:off x="7315200" y="342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4880" y="3048120"/>
            <a:ext cx="5505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Click on the docu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To find the chart and fill it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Save it to your own folder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24400" y="304920"/>
            <a:ext cx="20952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ATISTIC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486400" y="4876920"/>
            <a:ext cx="190512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2T07:03:05Z</dcterms:created>
  <dc:creator>daniel</dc:creator>
  <dc:description/>
  <dc:language>en-US</dc:language>
  <cp:lastModifiedBy>stpeters</cp:lastModifiedBy>
  <dcterms:modified xsi:type="dcterms:W3CDTF">2008-07-16T02:06:03Z</dcterms:modified>
  <cp:revision>16</cp:revision>
  <dc:subject/>
  <dc:title>PowerPoint Presentation</dc:title>
</cp:coreProperties>
</file>